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619AC-6579-4E12-82AB-4ACDC3FFD3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xual Reproduction in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xual Reproduction in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nucleus enters the egg and moves to the egg nucleus. The 2 nuclei join together and then form a zygo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nucleus enters the egg and moves to the egg nucleus. The 2 nuclei join together and then form a zygo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rnal Fertiliz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outside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s that breed in the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hazards in the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and egg may not m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gs or offspring may be ea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die due to environmental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rnal Fertiliz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outside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s that breed in the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hazards in the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and egg may not m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gs or offspring may be ea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die due to environmental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number of sperm and egg are released to overcome haz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mones control behavior to have sperm and egg released at the same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number of sperm and egg are released to overcome haz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mones control behavior to have sperm and egg released at the same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l Fertiliz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within the femal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d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aquatic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top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l Fertiliz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within the femal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d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aquatic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top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specialized sex organ to carry sperm to body of fem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y environment needed for sperm to swim to the e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specialized sex organ to carry sperm to body of fem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y environment needed for sperm to swim to the e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fertilization, zygote is enclosed in a protective shell and released OR remains and develops in femal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yg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tle laying eg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fertilization, zygote is enclosed in a protective shell and released OR remains and develops in femal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yg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tle laying eg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l Fert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wer eggs nee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 protect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d chance of fert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henogenesis – development of unfertilized egg into an adult.- Bees &amp; Was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l Fert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wer eggs nee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 protect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d chance of fert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henogenesis – development of unfertilized egg into an adult.- Bees &amp; Was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29F8-A0C3-4AB2-AB6E-FB9200C9C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2531-4022-420E-91EB-745EE8E85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FEBC-DE15-4488-B2D2-57816F0AD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F291-AE8C-4774-9C43-6B8DE6D93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12BA-29BC-4427-AF92-3428926B7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E8E4-4697-42FC-A68D-706EE31A9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A712-1921-410E-B0A4-062D0BC36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A265-C507-4640-BF4F-E8016552C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1F53-3BF2-4EDE-8E08-6A156A1F6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D48B-AA05-41BA-8964-6BC278C44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28EF-B38B-4452-8379-F0FC4AE94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7B7C-6E38-430F-B71D-A09E4BD4F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A8954-AEF2-4DE4-A0E0-D950452018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images.google.com/imgres?imgurl=http://comenius.susqu.edu/bi/202/DICTIONARY%2520OF%2520TERMS/ANIMALS/terms/figures/sperm%2Begg.jpg&amp;imgrefurl=http://comenius.susqu.edu/bi/202/DICTIONARY%2520OF%2520TERMS/O/oogamous.htm&amp;usg=__6_5EVVHfiqVHATJlArAvd_srYUQ=&amp;h=482&amp;w=501&amp;sz=43&amp;hl=en&amp;start=5&amp;tbnid=X3vFWaZLCnI3GM:&amp;tbnh=125&amp;tbnw=130&amp;prev=/images%3Fq%3Dsperm%2Band%2Begg%26gbv%3D2%26hl%3Den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hyperlink" Target="http://images.google.com/imgres?imgurl=http://desireestanley.files.wordpress.com/2009/03/blue-bird-missouri.jpg&amp;imgrefurl=http://desireestanley.wordpress.com/2009/03/&amp;usg=__J1H5bAiZmjp4GCOTc-WyhLk_WXU=&amp;h=385&amp;w=400&amp;sz=34&amp;hl=en&amp;start=2&amp;tbnid=CUCp-71F-MTkOM:&amp;tbnh=119&amp;tbnw=124&amp;prev=/images%3Fq%3Dbird%26gbv%3D2%26hl%3Den" TargetMode="External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Sexual Reproduction in Anim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762120" y="1397160"/>
          <a:ext cx="7696080" cy="4241520"/>
        </p:xfrm>
        <a:graphic>
          <a:graphicData uri="http://schemas.openxmlformats.org/drawingml/2006/table">
            <a:tbl>
              <a:tblPr/>
              <a:tblGrid>
                <a:gridCol w="3848040"/>
                <a:gridCol w="3848040"/>
              </a:tblGrid>
              <a:tr h="79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</a:rPr>
                        <a:t>M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ff0066"/>
                          </a:solidFill>
                          <a:uFillTx/>
                          <a:latin typeface="Arial"/>
                        </a:rPr>
                        <a:t>Fem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met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Enviro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</a:t>
                      </a: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per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nad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</a:t>
                      </a: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tes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any sperm cel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- </a:t>
                      </a:r>
                      <a:r>
                        <a:rPr b="0" lang="en-US" sz="32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</a:rPr>
                        <a:t>spermatogenesi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perm cells are(n) haploid/monoplo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met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eg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nad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ova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Few to many eg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- </a:t>
                      </a:r>
                      <a:r>
                        <a:rPr b="0" lang="en-US" sz="3200" spc="-1" strike="noStrike" u="sng">
                          <a:solidFill>
                            <a:srgbClr val="ff0066"/>
                          </a:solidFill>
                          <a:uFillTx/>
                          <a:latin typeface="Arial"/>
                        </a:rPr>
                        <a:t>oogenesi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Egg cells are (n) haploid/monoplo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4"/>
          <p:cNvGraphicFramePr/>
          <p:nvPr/>
        </p:nvGraphicFramePr>
        <p:xfrm>
          <a:off x="457200" y="2503440"/>
          <a:ext cx="4038480" cy="27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503440"/>
                    <a:ext cx="4038480" cy="27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685800" y="228600"/>
          <a:ext cx="7848720" cy="6400800"/>
        </p:xfrm>
        <a:graphic>
          <a:graphicData uri="http://schemas.openxmlformats.org/drawingml/2006/table">
            <a:tbl>
              <a:tblPr/>
              <a:tblGrid>
                <a:gridCol w="3924360"/>
                <a:gridCol w="3924360"/>
              </a:tblGrid>
              <a:tr h="30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per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*Small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*Swims through liqu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*Head, middle, &amp; tail (flagellu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Eg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*Larger than a body ce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*Cannot move on its ow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*Round sha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3" name="Picture 24" descr="_42574053_egg_cell_ap_203b"/>
          <p:cNvPicPr/>
          <p:nvPr/>
        </p:nvPicPr>
        <p:blipFill>
          <a:blip r:embed="rId3"/>
          <a:stretch/>
        </p:blipFill>
        <p:spPr>
          <a:xfrm>
            <a:off x="5105520" y="762120"/>
            <a:ext cx="3276360" cy="2452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6" descr="sperm01"/>
          <p:cNvPicPr/>
          <p:nvPr/>
        </p:nvPicPr>
        <p:blipFill>
          <a:blip r:embed="rId4"/>
          <a:stretch/>
        </p:blipFill>
        <p:spPr>
          <a:xfrm>
            <a:off x="1371600" y="838080"/>
            <a:ext cx="24382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ert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perm nucleus enters the egg and moves to the egg nucleus. The 2 nuclei join together and then form a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zygote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uesc_05_img0247"/>
          <p:cNvPicPr/>
          <p:nvPr/>
        </p:nvPicPr>
        <p:blipFill>
          <a:blip r:embed="rId1"/>
          <a:stretch/>
        </p:blipFill>
        <p:spPr>
          <a:xfrm>
            <a:off x="838080" y="3200400"/>
            <a:ext cx="2492640" cy="3233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sperm%2Beg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00600" y="3429000"/>
            <a:ext cx="304812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ternal Fertiliz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*outside the bo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nimals that breed in the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00"/>
                </a:solidFill>
                <a:uFillTx/>
                <a:latin typeface="Arial"/>
              </a:rPr>
              <a:t>Many hazards in the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Sperm and egg may not m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Eggs or offspring may be ea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May die due to environment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Oxygen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siamese-fighting-fish"/>
          <p:cNvPicPr/>
          <p:nvPr/>
        </p:nvPicPr>
        <p:blipFill>
          <a:blip r:embed="rId1"/>
          <a:stretch/>
        </p:blipFill>
        <p:spPr>
          <a:xfrm>
            <a:off x="6858000" y="1371600"/>
            <a:ext cx="1673280" cy="14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Large number of sperm and egg are released to overcome haz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ormones control behavior to have sperm and egg released at the same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fish"/>
          <p:cNvPicPr/>
          <p:nvPr/>
        </p:nvPicPr>
        <p:blipFill>
          <a:blip r:embed="rId1"/>
          <a:stretch/>
        </p:blipFill>
        <p:spPr>
          <a:xfrm>
            <a:off x="2743200" y="3505320"/>
            <a:ext cx="3654360" cy="27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nal Fertiliz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*within the female bo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d an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aquatic an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to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draft_lens1441580module8530159photo_Dog_Medicine_Side_Effects5"/>
          <p:cNvPicPr/>
          <p:nvPr/>
        </p:nvPicPr>
        <p:blipFill>
          <a:blip r:embed="rId1"/>
          <a:stretch/>
        </p:blipFill>
        <p:spPr>
          <a:xfrm>
            <a:off x="3581280" y="1523880"/>
            <a:ext cx="1371600" cy="1252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Five dead sharks were found ..."/>
          <p:cNvPicPr/>
          <p:nvPr/>
        </p:nvPicPr>
        <p:blipFill>
          <a:blip r:embed="rId2"/>
          <a:stretch/>
        </p:blipFill>
        <p:spPr>
          <a:xfrm>
            <a:off x="5410080" y="3733920"/>
            <a:ext cx="1524240" cy="1143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octopus"/>
          <p:cNvPicPr/>
          <p:nvPr/>
        </p:nvPicPr>
        <p:blipFill>
          <a:blip r:embed="rId3"/>
          <a:stretch/>
        </p:blipFill>
        <p:spPr>
          <a:xfrm>
            <a:off x="4572000" y="4952880"/>
            <a:ext cx="2476440" cy="1627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blue-bird-missouri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105520" y="1523880"/>
            <a:ext cx="1333440" cy="1279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" descr="Two Headed Snake"/>
          <p:cNvPicPr/>
          <p:nvPr/>
        </p:nvPicPr>
        <p:blipFill>
          <a:blip r:embed="rId6"/>
          <a:stretch/>
        </p:blipFill>
        <p:spPr>
          <a:xfrm>
            <a:off x="6781680" y="1523880"/>
            <a:ext cx="1370160" cy="17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s specialized sex organ to carry sperm to body of fem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y environment needed for sperm to swim to the eg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fertilization"/>
          <p:cNvPicPr/>
          <p:nvPr/>
        </p:nvPicPr>
        <p:blipFill>
          <a:blip r:embed="rId1"/>
          <a:stretch/>
        </p:blipFill>
        <p:spPr>
          <a:xfrm>
            <a:off x="3352680" y="3809880"/>
            <a:ext cx="2514600" cy="25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fertilization, zygote is enclosed in a protective shell and released OR remains and develops in female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zygote"/>
          <p:cNvPicPr/>
          <p:nvPr/>
        </p:nvPicPr>
        <p:blipFill>
          <a:blip r:embed="rId1"/>
          <a:stretch/>
        </p:blipFill>
        <p:spPr>
          <a:xfrm>
            <a:off x="838080" y="2743200"/>
            <a:ext cx="2438640" cy="2438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LOGGER-2"/>
          <p:cNvPicPr/>
          <p:nvPr/>
        </p:nvPicPr>
        <p:blipFill>
          <a:blip r:embed="rId2"/>
          <a:stretch/>
        </p:blipFill>
        <p:spPr>
          <a:xfrm>
            <a:off x="5943600" y="2362320"/>
            <a:ext cx="2079720" cy="3028680"/>
          </a:xfrm>
          <a:prstGeom prst="rect">
            <a:avLst/>
          </a:prstGeom>
          <a:ln w="0">
            <a:noFill/>
          </a:ln>
        </p:spPr>
      </p:pic>
      <p:sp>
        <p:nvSpPr>
          <p:cNvPr id="76" name="Text Box 8"/>
          <p:cNvSpPr/>
          <p:nvPr/>
        </p:nvSpPr>
        <p:spPr>
          <a:xfrm>
            <a:off x="685800" y="52354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yg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5562720" y="55627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rtle laying eg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Internal Fert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ewer eggs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ell protec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creased chance of ferti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Parthenogenesis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– development of unfertilized egg into an adult.- Bees &amp; Was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bees"/>
          <p:cNvPicPr/>
          <p:nvPr/>
        </p:nvPicPr>
        <p:blipFill>
          <a:blip r:embed="rId1"/>
          <a:stretch/>
        </p:blipFill>
        <p:spPr>
          <a:xfrm>
            <a:off x="2209680" y="4114800"/>
            <a:ext cx="37530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5T16:13:21Z</dcterms:created>
  <dc:creator>bzemcik</dc:creator>
  <dc:description/>
  <dc:language>en-US</dc:language>
  <cp:lastModifiedBy>RomaK</cp:lastModifiedBy>
  <dcterms:modified xsi:type="dcterms:W3CDTF">2015-09-04T11:08:23Z</dcterms:modified>
  <cp:revision>8</cp:revision>
  <dc:subject/>
  <dc:title>Sexual Reproduction in Animals</dc:title>
</cp:coreProperties>
</file>